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18F-B6E2-410E-ACE8-10AA5592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10B-C654-4156-AFE3-765FC1D5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AF1-9F80-42BB-841F-662D17AB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D7E-9DE2-4CF7-A7F5-2FAB7E8D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96D2-4720-4181-A93C-1DBF8634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6CFA-57DD-43E4-BCF0-C9125CDD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32F4-A4EF-4AA8-B1B8-422BC7D4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A304-EC04-4782-B46F-674833A7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0B8F-92E3-4AE6-BD29-147AF6B5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2741-559B-46F9-9C42-06BAED21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18D6-CAEB-4787-A042-49651349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009-503B-4D92-9008-ACBDC9D5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FAC8-3EBA-45ED-A638-0462E9EF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7D33-C218-4400-8601-CD00849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3555-2860-4A96-A3A8-EAD30CFF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7265-3347-406A-94E3-439E72DA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2CE-62CE-47BE-A089-91EC77F0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D3C-C810-42F4-BF0E-EA3603B3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611-1E90-4405-B23E-18E3FE84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F26-7406-458E-AF68-87C41B3A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844-ABAA-4B05-A478-3C79DF94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111-80F0-48A2-B6D4-FA6E2BE1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8F3-4AE3-4657-8A5A-512755C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6FE-6EE8-4500-93D0-D286B31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9F4-7B54-4BE0-94DE-1527EA84CB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7A18-CF90-49C2-868D-D693FC90ED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The poisoning of 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lexander Litvinenko.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16720" y="2646360"/>
            <a:ext cx="1687320" cy="3375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3313080" cy="2311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924360" y="3284640"/>
            <a:ext cx="1905120" cy="1647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 the timeline of the poisoning.  Can you see why the doctors had trouble determining what was poisoning Alexand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 you already know about alpha radi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stops i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uses are there for i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581360"/>
            <a:ext cx="777240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an isotop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oes it mean by half lif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would the Polonium have killed Alexander when the killer have been safe carrying 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didn’t tests detect the radiation when he was admitted to hospit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2235240" cy="2744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981000"/>
            <a:ext cx="6804000" cy="3024360"/>
          </a:xfrm>
          <a:prstGeom prst="wedgeRectCallout">
            <a:avLst>
              <a:gd name="adj1" fmla="val -61597"/>
              <a:gd name="adj2" fmla="val -20185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onium has 25 known isotopes, all of which are radioactive. They emit alpha radiation and have atomic masses that range from 194  to 21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 is the most widely available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 (half-life 103 years)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 (half-life 2.9 years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Why Polonium 210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5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you think the killers were smart using Polonium to kill Alexan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of reasons for or against, watch here for clu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1332000" cy="11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Alexander Litvinenko, poisoned, KGB, Scotland Yard, Russian spy,"/>
          <p:cNvPicPr/>
          <p:nvPr/>
        </p:nvPicPr>
        <p:blipFill>
          <a:blip r:embed="rId3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2852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has a half life of only 138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8526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would have died quickly, no one would have discov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4005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kills the white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4005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is rare and usually only available to the very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3141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drugs could have killed him eas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321300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pha radiation wouldn’t have been detected in his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91280" y="443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occurs naturally in low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9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500"/>
                            </p:stCondLst>
                            <p:childTnLst>
                              <p:par>
                                <p:cTn id="71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6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6500"/>
                            </p:stCondLst>
                            <p:childTnLst>
                              <p:par>
                                <p:cTn id="83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Read the timeline of the poisoni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5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you think the killers were smart using Polonium to kill Alexan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of reasons for or against, watch here for clu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133200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lexander Litvinenko, poisoned, KGB, Scotland Yard, Russian spy,"/>
          <p:cNvPicPr/>
          <p:nvPr/>
        </p:nvPicPr>
        <p:blipFill>
          <a:blip r:embed="rId3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2852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has a half life of only 138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526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would have died quickly, no one would have discov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4005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kills the white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4005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is rare and usually only available to the very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3141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drugs could have killed him eas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321300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pha radiation wouldn’t have been detected in his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91280" y="443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occurs naturally in low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4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6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8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70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Read the timeline of the poisoni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5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you think the killers were smart using Polonium to kill Alexan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of reasons for or against, watch here for clu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1332000" cy="1152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lexander Litvinenko, poisoned, KGB, Scotland Yard, Russian spy,"/>
          <p:cNvPicPr/>
          <p:nvPr/>
        </p:nvPicPr>
        <p:blipFill>
          <a:blip r:embed="rId3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2852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has a half life of only 138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28526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would have died quickly, no one would have discov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005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kills the white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4005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is rare and usually only available to the very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3141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drugs could have killed him eas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321300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pha radiation wouldn’t have been detected in his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91280" y="443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occurs naturally in low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1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5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6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6500"/>
                            </p:stCondLst>
                            <p:childTnLst>
                              <p:par>
                                <p:cTn id="257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Read the timeline of the poisoni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5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you think the killers were smart using Polonium to kill Alexan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of reasons for or against, watch here for clu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1332000" cy="1152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lexander Litvinenko, poisoned, KGB, Scotland Yard, Russian spy,"/>
          <p:cNvPicPr/>
          <p:nvPr/>
        </p:nvPicPr>
        <p:blipFill>
          <a:blip r:embed="rId3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2852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has a half life of only 138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8526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would have died quickly, no one would have discov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4005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kills the white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4005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is rare and usually only available to the very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3141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drugs could have killed him eas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321300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pha radiation wouldn’t have been detected in his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91280" y="443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occurs naturally in low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6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8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4500"/>
                            </p:stCondLst>
                            <p:childTnLst>
                              <p:par>
                                <p:cTn id="320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332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6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6500"/>
                            </p:stCondLst>
                            <p:childTnLst>
                              <p:par>
                                <p:cTn id="344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0:41:12Z</dcterms:created>
  <dc:creator>Ian Hemming</dc:creator>
  <dc:description/>
  <dc:language>en-US</dc:language>
  <cp:lastModifiedBy>sthemmingi</cp:lastModifiedBy>
  <dcterms:modified xsi:type="dcterms:W3CDTF">2007-03-13T11:43:59Z</dcterms:modified>
  <cp:revision>5</cp:revision>
  <dc:subject/>
  <dc:title>The poisoning of  Alexander Litvinenko.</dc:title>
</cp:coreProperties>
</file>